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D4E7-95E4-4999-8936-66B505AF0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2C13-BBBB-4AFE-B875-B7BB1CF7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. 70-80, Borderline deficiency. 50-69, Moron. 20-49, Imbecile. below 20, Idiot. These are now largely obsolete and mental deficiency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2189-AA07-446E-9A85-531CA31C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66A-7081-4CF8-BAAE-D27A44F3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41B2-2A0E-424A-A277-6036480F2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DE0-57EA-4425-AC6A-3F0424831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61E0-7177-46E3-845D-5AC3D3B5B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7B58-99E7-48AF-8D4D-FFE23AD5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C3C-6A6A-445F-B41C-2AD8854A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4634-EF42-438C-899D-EEA633B6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CD8E-CB2F-4205-B6AD-B4D879B1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ce is a concept to explain why some people perform better than others on cognitive tasks.  Others (Robert Sternberg) mental abilities needed to adapt to and shape ones en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5A2-B5D1-4DB1-B916-AE6423D4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analysis – cluster of 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D9B-6897-4D5F-A295-91E28B73A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40E7-19D0-49F2-8D0E-2ED1564CC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D98F-46F4-4858-B825-C453A1846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548-45C3-4850-AA0A-8ED116FD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0D80-82E2-4233-BEBA-B39F3E833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chsler Adult Intelligence Scale (WA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ED5F-A90C-4BBE-8481-09E33529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66C-727E-426A-BDDA-CC378246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6AF-422E-49D3-BAE4-27BDC220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A82-F41A-42FD-8430-6F11F88A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59639B-B94D-4149-890D-84C1AA3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994A8-6A50-4D82-A3CE-C0B24E9C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ECF56-47F5-422E-9A6E-CE7FFCAD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BF7751-6C9B-4901-AC1A-097E876E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EDB78-9517-4DD4-A166-2755A2D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47B40-9A50-4811-AC73-8376F8E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AFC882-9774-4FA8-814B-511C3A28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AF809F-3B7B-470D-9425-8A02A4FC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F1F68-C320-4C3F-A68D-8CAC95FA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F5CE4-B765-4073-89DB-B9B24CB2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9C0-D714-4A94-86A6-6D1189D1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10956B-90E0-4431-B9C9-4D370B79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52A9A-BC97-431E-87D0-89573D5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0F91EA-3905-49CA-80E7-B9DE7CE6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E3E0E2-2924-43C1-BC7A-4D965FD1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DE94A-D78C-4D16-8B64-8ABCD86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8676E6-4826-41B5-A57F-C397D85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9223D0-C935-4D4B-967A-3975C659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AA807B-AC58-4745-B724-FFB1A02E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28FDA-4C0D-47A5-8656-DFE0A9B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76AB2E-0997-4CDC-8983-079FF40D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D8E-5A09-4728-A0DE-2BD0FE15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5B1DB-B8FB-48C9-9EA0-8B12D91C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6DC966-FFC2-428C-948C-3DEF85AA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37480-66C6-46BF-AF1E-17B0BBC0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1439CE-807B-4CCE-A5D4-606510C6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53B9C-DC66-4F06-AF4B-96D36BA3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C59923-ECEE-4875-B166-4A76E66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61636D-F87A-413A-9A79-33358D9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24088D-7689-4DD6-84E1-79CF4C7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74FF3D-C026-4D47-AA19-16BCBC4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C6D54F-93CB-455F-BD56-EC2F341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FDEC-DDB0-46B5-A0A9-C3FDA990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9D30BE-8FFF-4F28-BC1B-F312C4AE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7F4EEE-9415-4844-BE3C-BAA8DE66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B897F5-7402-42BD-B210-544950F5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FC6B29-80C1-4734-8B7E-7922AE57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274546-CE12-4E48-B127-4903E8E8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6B674D-4CC2-48F6-95B1-A7E8BDE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7155CD-10A3-47EE-80F2-D2830BEE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EAB74-92B9-4A97-B814-028E53B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0235E3-E600-42C2-BF05-C89642B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F21C4D-5AE8-4055-93F8-C06B47D4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09FB-3EC1-4EB9-A53E-7592CB55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71869F-3164-474C-BAAB-E647CB0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FE6221-74E9-437E-AB9F-938AF3B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99FF71-ACE3-47D6-A824-9F33B264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FBB82A-E0F2-4C6A-927A-253D00C9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48D756-EFA4-4C17-B3B5-043BD255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FA9EA-54DC-48E8-AD5B-9126A3DA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49509E-049F-43B8-B2F3-25F219F5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1EEC4-9186-4766-9AC6-F7DF2D42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6B8D12-9262-414A-B5B7-68E0B7A6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5BC78-72EA-4CD6-9A93-42B1531C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421-8D15-4702-95A2-7E0B74D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34A345-E041-4250-8CC3-43310204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10D410-39C9-4EAA-B854-81AFF8B6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9EA656-41BF-412D-A037-D4EBD351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D39F2-D135-4980-A23B-39DCCE7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D54B40-48FC-44BD-86A4-06B346DA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C6D71E-D075-4437-B569-606AC9A8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C269C4-4568-423D-AB9B-545583C9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430EF0-57FC-42A5-A1E6-FF6BBF55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DDF15B-6AB3-4934-ADEA-DD174EB4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26D51B-08D6-4C69-8E81-A302F53E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0372-5E38-4866-8836-58155856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7A175B-C798-4EAB-BAD6-E5E6DD47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7B5ABE-660F-4831-A1BD-20344D33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8E4012-3988-4B89-AD0E-66A7A56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D9DCB4-BDBB-4048-90A2-15F2AEF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4648AB-25D2-4DE7-A0D9-796F32D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C634AC-E6D8-44FD-AA7F-E253511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1C9CE2-554B-47FF-B83D-70026D8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F8BE3E-A925-4BE9-B324-38C94151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53C910-3238-4178-BF51-2FCE2A2B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9B3F5D-6969-446E-838E-B80FD39B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0F2D-3ED3-4CF2-884C-C007E9A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D5EBDC-CD1B-4986-A636-EAFCB8A4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9CF4E2-A6C2-40E8-80AD-004ACC8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538207-56B7-4BE8-8BB3-0F43B3E1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EDC06E-7CF7-4433-98C0-A020755E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AA4EB9-41AC-455E-A893-9ED6862F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CFB2C6-1AE7-43EC-935D-7313ED1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4483F7-F515-435D-B29E-B7E5D19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D4DAAA-EBE7-4044-ADEE-853631D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A73EC6-E50D-4C61-A940-6C45B2C1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E2EAC8-8872-46AE-B609-2690D755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80FD-6225-488A-9581-988D697F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AF7E1F-EFC6-47A3-9C37-A4D3EF00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0156-4C03-489C-A336-4ECEF743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05D-F8AE-4E20-9474-F03DA018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6DBA-F929-4D73-AC10-5A1AFF17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AD17-8C02-4090-B4EE-2C3036C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4533-2CA0-4E58-B390-8C5175C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F4BA-8604-4C50-9052-3262C790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7228-3561-40B3-9BC4-4C5496B9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EB63-E555-41A4-AD8C-2A4BBB71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0F3E-FF2A-474A-8BF1-85ACADB5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D4C1-0003-4368-A970-AC78713E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A652-B139-4151-85D2-0D654E91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7E73-3A54-4D46-98EA-774B788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6AB-ABD0-4EAA-B074-22CC8D98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FF6B-F84C-49DD-88ED-BE4C93B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2E38-F851-4ABB-BF6E-66B00B8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CA4C-3164-45C2-B12A-FD5E9F26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0475-F053-44A0-ABE0-C0011B2C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3767-F3EF-4E6C-A16F-76A96C3B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C2F5-7AC2-4987-883E-C629935F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9756-5914-472A-A024-C2DD3A96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87C-0E0A-45F3-8434-C11C84FA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A7C61-128E-4BF0-AAB9-4D7113B1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372-39F7-414C-B79F-A170BDE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9E146-F978-46A0-AD6F-79F86E2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53E1E-0DB5-4B92-9608-19C500F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5F1F8-FC71-46D1-A10A-A09CDAFE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8202E-B5E0-4ADA-A715-71D8BB19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0330A-6D64-4D3F-A397-4830197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DA344-B53C-41CA-9840-7B29017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12146-00A8-4354-89A4-D6D5D19E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6873D-195E-41E6-A0F1-3B95BF2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7CD23-8FD1-48A9-A5CE-80AE429F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CB589-31C8-4B93-A95C-E4626DC5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35B-EA24-4381-AF35-A18EFE87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B65BE-E713-4CE6-9A3C-152BAEAC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BAAE1-3D6B-4A89-98AF-6725CAC7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F1C43-0A5D-4755-AD9D-0B277A57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8CD9A-5303-477A-8DA0-D9717466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0FE7E-7FEE-4756-BF38-E2585D76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1F5AD-3A8C-4D6D-B4B6-3894BC40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D4CA9-D795-4C9A-9E32-F97D148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9E825-90A4-4B01-A3FB-83C70EF3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EF58E-A4D2-4A37-8830-432543C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9EC6B-E1AA-4CE1-A9AD-70C909A8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D64-BCD4-4B49-9A94-8E69E2F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95DE9-EF00-47B0-8DD0-EDB69F94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D4592-C1A2-4C7C-A91D-0A86BAB6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758C1-872F-4EBB-B1E9-CEC6C6C6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3670F-AC5D-4136-86C5-9448FE9D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23665-A987-41B6-A0D3-5595B918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D9EF5-8B27-4A14-B860-E97D560F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ED468-1A4E-4A91-A007-3594D58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14618-9914-42E2-B91B-06F08149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A3B4A-C624-492E-AE09-A27B2F4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FCAE8-1D2F-462F-90E1-BEB6F4FE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466-1B3D-4135-9DA9-B8449B60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26DE4-EA2D-4C5E-ABCE-23AC1C89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711B2-6427-4740-B2E1-654BC1F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8951B-7349-4C81-94C6-3033533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675B3-7918-4BBE-A242-7F743E59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8E2F4-B23C-452F-872A-5405988E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3FA9E-1308-4691-962B-711BA47E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4375B-6B66-4FA7-BB4A-668A89A1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6FB0C-FB48-4CFC-91E7-0B03FBE8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6CDB73-8673-4687-A663-FD9C483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B1B2A-EB91-4236-BF9B-50A19C8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9EF-E851-4FA9-BFF2-BC6B200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9B1CFB-B303-4907-B482-F2FE34CB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368B5F-7C6C-4F4D-9AE7-4E5D7B09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E0724-1393-4061-94E7-CD0E4ACD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FA57E-07DB-4E37-99FA-638CF40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0A7B7-9E80-4E71-BA3C-9966FB7D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C5F45E-2EB1-47A4-85B8-2BE776F5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F2E338-99A1-45E7-8DD6-C84D9967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98E641-C1F8-48AE-85E9-19CEA6B6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9A8765-F6D2-43D9-AB61-62075DB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E3A3E-AB0E-419D-BC34-1EEB5358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6C8-0C55-4CE5-AF83-857D9218758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3EB-7C07-444C-BE2D-9C7BCB399B6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57B4-9F2B-45EE-A278-6CB78A39AAF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ECC-C6E9-4533-A7AA-F8B184EE960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E7B6-E75A-46B5-91CE-C94C6B62E3F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765-D198-4FBC-8B9D-69ED96C822A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34C6-8CAA-4995-9644-A84FCEB2D25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B99E-AAC1-4349-92D9-164A7093343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612-FEE0-406B-B2B0-2C97D7E0DDE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3F3B-668C-4CDE-92E2-331ADDA826B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836B-F935-4A85-832B-85CCA7FB0E5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7A2-FADC-4301-944E-3D93176E931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BFF2-7F64-4368-BD5F-3743EC4D1DF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62FA-0428-4FCA-A927-E6C291DA50B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8E51-A940-4968-B81C-D68CD6BD5B4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8916-FCFB-47A5-BB6E-007C5282655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CE3-BF13-45BE-8DBB-871ECA19293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1186-DB2C-4C1A-9A12-2FBC5FE0CCB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5985-3B61-4FF9-BE10-7317ABCD7BA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F978-5E6C-47E2-AD57-14294D57574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DEFA-F996-42E1-80DB-4B5C0901176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3B1D-06ED-497C-834D-42E7A33552A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7A15-AB69-4C42-A35F-A3DD973AC31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8FB8-0C53-40E6-A490-94D8BB90EE8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B282-5641-4EDD-A097-CE51DD7F74F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7A6-7F4E-4222-B53B-D56D77CC60F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6654-B1C7-4834-8CD2-891D969C459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0D26-BAB5-48B8-B290-D8CB4FC5172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9701-532B-42A3-9AA3-586065EB994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Module 22</a:t>
            </a:r>
            <a:br>
              <a:rPr sz="4800"/>
            </a:b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Intellig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2"/>
          <a:stretch/>
        </p:blipFill>
        <p:spPr>
          <a:xfrm>
            <a:off x="987480" y="712800"/>
            <a:ext cx="71629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2"/>
          <a:stretch/>
        </p:blipFill>
        <p:spPr>
          <a:xfrm>
            <a:off x="555480" y="1233360"/>
            <a:ext cx="8026560" cy="43941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0c8"/>
                </a:solidFill>
                <a:latin typeface="Times New Roman"/>
              </a:rPr>
              <a:t>The Normal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Genetic and Environmental Influences on Intelligence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Genetic Influenc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vironmental Influenc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Early Intervention Effect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chooling Effect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1" name="Footer Placeholder 4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2" descr=""/>
          <p:cNvPicPr/>
          <p:nvPr/>
        </p:nvPicPr>
        <p:blipFill>
          <a:blip r:embed="rId2"/>
          <a:stretch/>
        </p:blipFill>
        <p:spPr>
          <a:xfrm>
            <a:off x="555480" y="858960"/>
            <a:ext cx="8026560" cy="51433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0c8"/>
                </a:solidFill>
                <a:latin typeface="Times New Roman"/>
              </a:rPr>
              <a:t>Intelligence: Nature and Nu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2" descr=""/>
          <p:cNvPicPr/>
          <p:nvPr/>
        </p:nvPicPr>
        <p:blipFill>
          <a:blip r:embed="rId2"/>
          <a:stretch/>
        </p:blipFill>
        <p:spPr>
          <a:xfrm>
            <a:off x="555480" y="1703520"/>
            <a:ext cx="8026560" cy="34542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0c8"/>
                </a:solidFill>
                <a:latin typeface="Times New Roman"/>
              </a:rPr>
              <a:t>Who Do Adopted Children Resem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555480" y="1246320"/>
            <a:ext cx="8026560" cy="43686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0c8"/>
                </a:solidFill>
                <a:latin typeface="Times New Roman"/>
              </a:rPr>
              <a:t>The Schooling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Group Differences in Intelligence Test Scores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thnic Similarities and Differenc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Gender Similarities and Differenc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Math and Spatial Aptitude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Emotion-Detecting Abilit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 Question of Bia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2"/>
          <a:stretch/>
        </p:blipFill>
        <p:spPr>
          <a:xfrm>
            <a:off x="555480" y="1855800"/>
            <a:ext cx="8026560" cy="314964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3"/>
          <p:cNvSpPr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0c8"/>
                </a:solidFill>
                <a:latin typeface="Times New Roman"/>
              </a:rPr>
              <a:t>Group Differences and Environmental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2"/>
          <a:stretch/>
        </p:blipFill>
        <p:spPr>
          <a:xfrm>
            <a:off x="555480" y="2217600"/>
            <a:ext cx="8026560" cy="24256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0c8"/>
                </a:solidFill>
                <a:latin typeface="Times New Roman"/>
              </a:rPr>
              <a:t>The Mental Rotati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The Origins of Intelligence Testing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lfred Binet: Predicting School Achievemen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France: all children must attend school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Mental age (chronological age)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ewis Terman: The Innate IQ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IQ= mental age/chronological age x 100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Good for children not for adults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What Is Intelligence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One General Ability or Several Specific Abilities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7" name="Footer Placeholder 4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2"/>
          <a:stretch/>
        </p:blipFill>
        <p:spPr>
          <a:xfrm>
            <a:off x="606600" y="712800"/>
            <a:ext cx="7924680" cy="543564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0c8"/>
                </a:solidFill>
                <a:latin typeface="Times New Roman"/>
              </a:rPr>
              <a:t>Savant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Creativity and Intelligence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re is a link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vironment helps…so does knowledg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3" name="Footer Placeholder 1"/>
          <p:cNvSpPr/>
          <p:nvPr/>
        </p:nvSpPr>
        <p:spPr>
          <a:xfrm>
            <a:off x="595944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Emotional Intelligence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Q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an it be taught? Tested?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Howard Gardner thinks this is going too fa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High intelligence does get you into a profession, but does not guarantee success once you are there.  What does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95944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Assessing Intellig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Principles of Test Construction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tandardization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Reliabilit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Validit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9" name="Footer Placeholder 4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2"/>
          <a:stretch/>
        </p:blipFill>
        <p:spPr>
          <a:xfrm>
            <a:off x="1676520" y="277920"/>
            <a:ext cx="543384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oter Placeholder 2"/>
          <p:cNvSpPr/>
          <p:nvPr/>
        </p:nvSpPr>
        <p:spPr>
          <a:xfrm>
            <a:off x="685800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Exploring in Modules, Modul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60753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3:51:50Z</dcterms:created>
  <dc:creator>bfw</dc:creator>
  <dc:description/>
  <dc:language>en-US</dc:language>
  <cp:lastModifiedBy>MacAdmin Kis</cp:lastModifiedBy>
  <cp:lastPrinted>2008-11-26T00:23:54Z</cp:lastPrinted>
  <dcterms:modified xsi:type="dcterms:W3CDTF">2008-11-26T00:31:37Z</dcterms:modified>
  <cp:revision>7</cp:revision>
  <dc:subject/>
  <dc:title>Module 30 Introduction to Intelligence</dc:title>
</cp:coreProperties>
</file>